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937-A492-4FBF-8A3F-AF7F4EEA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2D6-0DB0-44E9-8F41-544EAA92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472-4EE2-4276-8800-17E3560D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AAE-B5AE-476F-A02E-8DFB29E0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E0A-6650-469A-BAEF-DA20A734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340-B3CE-4A59-B187-FFF29AC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F0C-436D-4D7F-811E-B23B3FD7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255-3A8E-49BF-B20E-4D8C837E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04C-8CA7-4D69-98C8-7971DC86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6C3-1DA8-4A30-85F9-9B97E4D4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0B4-678A-4B38-97E9-66FF46F4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99D-7987-4F44-B33C-CB1518EE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CF12-738E-4626-AC05-2FA8C642FF0C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ontinental Seminar on Food Security – Africa</a:t>
            </a:r>
            <a:br>
              <a:rPr sz="2800"/>
            </a:b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ommision of The European Communities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12-16 March, Nairobi (Kenya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La crise alimentaire de 2005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u Niger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Le Dispositif national face à la crise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ohny EGG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RA / IRAM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Montpellier , France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Zones Agro-Ecologiqu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6705720" y="3200040"/>
            <a:ext cx="533160" cy="22860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Verdana"/>
              </a:rPr>
              <a:t>Bilm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I. Le Dispositif national du Niger face à la crise de 2004-200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Caractérisation de la crise alimentaire 200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ne crise alimentaire sévère qui résulte d’une combinaison de facteurs conjoncturels et structurels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crise d’accessibilité sur fond de déficit d’offre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oduction céréalière insuffisante et  déficit fourrager très importa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iveau de prix des céréales très élevé…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ffet  intégration  marché  régional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aisse prix bétail, oignons et commer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9880" y="1981080"/>
          <a:ext cx="5181840" cy="40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981080"/>
                    <a:ext cx="5181840" cy="40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crise sévère pour tous les ménages vulnérab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énominateur commun : forte hausse des prix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dans contexte écon familiales précarisé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iversité des stratégies et des situation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ensification des stratégies d’atténuatio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des ménages sédentaires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cas région Maradi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xode précoce et prolongé de tous les jeunes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rte consommation de feuill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écapitalisation des ressourc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ours aux moins vulnérabl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crise nutritionnelle « révélée »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outes les enquêtes nutritionnelles anthropométriques réalisées en 2005 au Niger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nt donné 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s 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évalences de malnutrition aiguë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poids-taille &lt;-2ET) dans la population des enfants de moins de 5 ans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toujours graves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≥ 10%)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t souvent critiques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≥15%), comparables aux situations de guerr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outes les régions sont touchées (zones vulnérables ou non sur le plan alimentaire)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e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radoxe apparen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réside dans la complexité des causes de malnutritio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vec une intrication de la sécurité alimentaire, de l'environnement social et de la santé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66920" y="3252960"/>
            <a:ext cx="5560920" cy="755640"/>
          </a:xfrm>
          <a:prstGeom prst="rect">
            <a:avLst/>
          </a:prstGeom>
          <a:solidFill>
            <a:srgbClr val="ff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66920" y="1714680"/>
            <a:ext cx="5560920" cy="153324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66920" y="4765680"/>
            <a:ext cx="5560920" cy="75564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6920" y="4005360"/>
            <a:ext cx="5560920" cy="75564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1468440"/>
          <a:ext cx="7896240" cy="52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8440"/>
                    <a:ext cx="789624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835280" y="126828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(% d’enfants de 6 à 59 mois avec un Poids-Taille &lt; - 2 ET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30880" y="35002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Grav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57800" y="24922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Critiqu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57080" y="494172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Acceptabl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87640" y="342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57440" y="42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Mauvais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880" y="69480"/>
            <a:ext cx="7764480" cy="1191240"/>
          </a:xfrm>
          <a:prstGeom prst="rect">
            <a:avLst/>
          </a:prstGeom>
          <a:solidFill>
            <a:srgbClr val="ffffbd"/>
          </a:solidFill>
          <a:ln w="12600">
            <a:solidFill>
              <a:srgbClr val="000000"/>
            </a:solidFill>
            <a:miter/>
          </a:ln>
          <a:effectLst>
            <a:outerShdw dist="73964" dir="19736436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2470"/>
                </a:solidFill>
                <a:latin typeface="Times New Roman"/>
              </a:rPr>
              <a:t>Ampleur de la crise </a:t>
            </a:r>
            <a:br>
              <a:rPr sz="2400"/>
            </a:br>
            <a:r>
              <a:rPr b="1" lang="fr-FR" sz="2400" spc="-1" strike="noStrike">
                <a:solidFill>
                  <a:srgbClr val="660066"/>
                </a:solidFill>
                <a:latin typeface="Times New Roman"/>
              </a:rPr>
              <a:t>Prévalence de malnutrition aiguë en 2005 </a:t>
            </a:r>
            <a:br>
              <a:rPr sz="2400"/>
            </a:br>
            <a:r>
              <a:rPr b="1" lang="fr-FR" sz="2400" spc="-1" strike="noStrike">
                <a:solidFill>
                  <a:srgbClr val="660066"/>
                </a:solidFill>
                <a:latin typeface="Times New Roman"/>
              </a:rPr>
              <a:t>dans plusieurs régions du Niger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5048280"/>
            <a:ext cx="6859800" cy="88740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175280"/>
            <a:ext cx="6859800" cy="86508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3311640"/>
            <a:ext cx="6877080" cy="863640"/>
          </a:xfrm>
          <a:prstGeom prst="rect">
            <a:avLst/>
          </a:prstGeom>
          <a:solidFill>
            <a:srgbClr val="ff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58760" y="1584360"/>
            <a:ext cx="6840720" cy="172728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-393840" y="1311120"/>
          <a:ext cx="8374320" cy="55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3840" y="1311120"/>
                    <a:ext cx="837432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9280" y="105264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(% d’enfants de moins de 5 ans avec un Poids-Taille &lt; - 2 ET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59600" y="33577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Grav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57800" y="24922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Critiqu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57440" y="42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Mauvais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57080" y="508464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Acceptabl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321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6200"/>
            <a:ext cx="8713800" cy="947160"/>
          </a:xfrm>
          <a:prstGeom prst="rect">
            <a:avLst/>
          </a:prstGeom>
          <a:solidFill>
            <a:srgbClr val="ffffbd"/>
          </a:solidFill>
          <a:ln w="12600">
            <a:solidFill>
              <a:srgbClr val="000000"/>
            </a:solidFill>
            <a:miter/>
          </a:ln>
          <a:effectLst>
            <a:outerShdw dist="73964" dir="19736436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f247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0066"/>
                </a:solidFill>
                <a:latin typeface="Times New Roman"/>
              </a:rPr>
              <a:t>Comparaison des prévalences  de malnutrition aiguë  1992 – 2000 - 2005 dans plusieurs régions du Niger (1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crise inscrite dans un continuum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u total, une crise inscrite dans un continuum de dégradation des systèmes de vie des populations vulnérab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ffaiblisement de la capacité d’absoption des chocs extérieu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tamment le choc des prix (les stratégies faisant davantage recours au marché)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« la crise nous a trouvé à genoux, elle nous a mis à terre 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« les gens ont adopté la crise 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057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Chronologie de la crise alimentair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périodisation du « processus »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Manque d’anticipation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et divergences de stratégies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Une crise qui interpelle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Une crise « non annoncée »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(pas vu venir)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Incluant les zones de production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principales !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Une médiatisation hors norme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au 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Sahel (20 an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Médias européens (presse et TV)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Visites : Koffi Anan, Ziegler, Roi du Maroc, Douste Blazy…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Décalage entre médiatisation et réalité perçue « à  Niamey »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Un Dispositif national de prévention considéré  comme expérimenté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Dispositifs du Sahel : les plus avancés des PMA (par défaut) 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Evaluation du Dispositif national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(autres : PAM, ONG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420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Juin - sept 2004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fin de la lutte anti-acridienn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Octobre - janv 2005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 :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iagnostic et programmatio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à partir d’un déficit jugé maîtrisable (et SNS faible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lan d’urgence d’atténuation des crises (PAC)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quête d’aide alimentai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manque de crédibilité du signal)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Février - jui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 :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outes et remises en causes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Hausse des prix, difficultés approvisionnement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évélation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 la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rise nutritionnelle (HKI-PAM, MSF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difie profondément le déroulement « annoncé » de la cris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er flash appeal, pression des media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assage à « l’arène internationale » (sièges des agences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420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Juillet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passage à l’urgence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rte  pression pour les distributions gratuites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(Médiatisation, « humanitaires, sièges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upture d’approvisionnement en céréales du Dispo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ngement de stratégie du P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ise institutionnelle au sein du DNPGCA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Août  – début oct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istributions gratuites gén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es nécessités de la coordination s’impose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ordination compliquée par gd nombre acteu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tributions gratuites grande échelle, grands moyen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Novembr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ifficulté de pronostic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velle campagne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e malgré la production satisfaisante et l’excédent de fourrages (en fonction résilience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 Caractérisation de la ré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Une réponse qui tarde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mais parvient à contenir la cris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er temps de la réponse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La stratégie d’atténuatio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eu d’impact en raison :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us dimensionnement du plan d’urgence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us réalisation, suite difficultés d’approvisionnement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AC :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ctions utiles mais réponse non  adaptée à difficultés d’envergure : lourdes à organiser + handicap manque disponibilités de céréal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entes à prix modérés :  réalisées à 50%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ppréciées, mais volumes insuffisants pour avoir impact significatif sur ménages et sur prix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ème temps de la réponse : l’urgen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es distributions gratuites à grande échell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uccès opérationnel global :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lus de 60.000 t de céréales  distribuées en deux mois durant la saison des pluies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dont 43.500 t par le PAM et 18.200 t par le Dispositif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is ambitions initiales de ciblage des ménages  abandonné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mpact important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seules aides significatives, 20 j.)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mais limité par période tardiv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ffets pervers sur actions de développement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banques de céréales, crédit, prise en charge…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80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entres de récupération nutritionnell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RENI, CRENAS, CRENA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37160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Janvier 2005  : 1 CRENI et 7 CRENA sur Maradi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Juillet 2005 : 1 Protocole National de prise en charge de la malnutritio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Juillet – décembre  : plus de 800 centres - 25 ONG – 335.000 enfants traité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9960" y="2700360"/>
            <a:ext cx="6408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II. Principaux enseign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Une nécessaire adaptation du dispositif public au changement de paradigme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 crise 2005 a mis en évidence… :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Un contexte de concurrrence pour leadership de gestion des crises :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ational, régional ou international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es faiblesses intrinsèques du Dispositif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Niger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ans sa capacité à faire face à une crise sévèr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es faiblesses dans le Dispositif régional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u niveau des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ytèmes d’informatio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(anticipation hausse des prix) : CILSS/Agrhymet, SMIAR/FA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u niveau des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olitiques de sécurité alimentaire et d’intégration régional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(face à fermeture frontières) : CILSS, UEMOA, CEDEAO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t surtou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a crise a mis en évidence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Un  décalage entr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e  « modèle » de Dispositif en place au Niger (et au Sahel)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t l’évolution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i) des conditions de la sécurité alimentaire des populations vulnérables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ii) des conditions de l’aide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Le Dispositif doit s’adapter à un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hangement de paradigm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 remise en question du schéma type de la crise alimentaire au Sah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’origine de la cris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’est pas liée à un choc, mais au processus de transformation et d’appauvrissement des ménages  ruraux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99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Nécessite des réponses dans la durée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’ampleur de la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alnutrition infantil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99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Nécessite solutions curatives </a:t>
            </a:r>
            <a:r>
              <a:rPr b="0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et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 préventiv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hangement du rôle du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arché régiona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Assurance sur disponibilités n’est plus garantie par le marché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Plan de l’exposé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ffff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es dispositifs de prévention / gestion des crises alimentaires dans les pays du Sah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Origines et structure des dispositif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es spécificités du dispositif du Niger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711360" indent="-711360">
              <a:spcBef>
                <a:spcPts val="799"/>
              </a:spcBef>
              <a:buClr>
                <a:srgbClr val="ffff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e DNPGCA du Niger face à la crise de 2005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a nature de la cri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e déroulement de la cri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es réponses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711360" indent="-711360">
              <a:spcBef>
                <a:spcPts val="799"/>
              </a:spcBef>
              <a:buClr>
                <a:srgbClr val="ffff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es enseignements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e la crise du Nige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’évolution des modalités d’alerte et de  mobilisation de l’aid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Times New Roman"/>
                <a:ea typeface="宋体"/>
              </a:rPr>
              <a:t>Décalage dans les politiques de communication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宋体"/>
              </a:rPr>
              <a:t> entre 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</a:rPr>
              <a:t>Le Dispositif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宋体"/>
              </a:rPr>
              <a:t>: information à caractère technique diffusée par des canaux spécialisé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</a:rPr>
              <a:t>Les acteurs de l’aide humanitaire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宋体"/>
              </a:rPr>
              <a:t> : mobilisation de l’opinion publique pour inciter à l’action les donateu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Times New Roman"/>
                <a:ea typeface="宋体"/>
              </a:rPr>
              <a:t>Aujourd’hui, la médiatisation est nécessaire pour </a:t>
            </a:r>
            <a:r>
              <a:rPr b="1" lang="fr-FR" sz="2800" spc="-1" strike="noStrike">
                <a:solidFill>
                  <a:srgbClr val="ffff99"/>
                </a:solidFill>
                <a:latin typeface="Times New Roman"/>
              </a:rPr>
              <a:t> renforcer l’efficacité de l’appel, mais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la priorité au plaidoyer se fait au détriment de l’inform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la médiatisation de la crise entraîne un changement d’arène  difficile à gérer pour les acteurs du Dispositif </a:t>
            </a: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(passage de l’arène locale à l’arène internationale et rôle prépondérant des acteurs de l’aide humanitaire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a globalisation de l’aide d’urgen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Elle rend le  dialogue plus difficile entre logique d’assitance humanitaire et logique de prévention / atténuation des cris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points de clivage durant la crise du Niger </a:t>
            </a:r>
            <a:r>
              <a:rPr b="0" lang="fr-FR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Sur l’aide humanitaire d’urgence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: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rvient avec ses normes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 globalisées »,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ses procédures, ses spécialistes, ses pratiques, et des moyens sans commune mesure avec ceux d’un dispositif national.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isque d’effets pervers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: distributions gratuites et 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宋体"/>
              </a:rPr>
              <a:t>initiatives non concerté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Sur la référence au droit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: droit à la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uveraineté sur la politique de sécurité alimentaire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ersus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roit universel à l’alimentation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 (qui s’affranchit, si nécessaire, des contraintes institutionnelles locales au nom du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voir d’ingérence)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our termin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A méditer sur les politiques d’aide 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’énorme écart entre :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e très grand nombre de recommandations des études sur la crise du Niger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t la capacité extrêmement limitée de mise en œuvre des structures locales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Merci pour votre attentio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. Les dispositifs de prévention / gestion des crises alimentaires dans les pays du Sah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 Sahel : une zone qui vit avec le risqu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n environnement à risqu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xposition aux risques liée à des aléas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 sécheresse, criquets)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ggravée par facteurs structurels :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auvreté, faible productivité, dégradation fertilité sols, pâturag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ne histoire jalonnée de famines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vant, pendant, après la colonisation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rises 1973/74 et 1984/85 ont fortement marqué la communauté internationale et les opinions publiques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 politique de prévention / atténu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Objectif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suppléer les stratégies des ménages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ex ante : prévenir le risque ;  ex-post : atténuer les conséquences du choc -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dée d’assurance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olitique s’impose après la libéralisation marchés céréaliers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Schéma de bas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formation (alerte / choc) : bilans, SAP, SIM…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tock de sécurité (et autres outils)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tructure coordination Etat- donateurs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Mise en œuvr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à partir fin 80’s tous les pays du CILSS se dotent d’un Dispositif national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L’origine du Dispositif Ni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1989 :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création du SAP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« coordination administrative de l’information »  (</a:t>
            </a:r>
            <a:r>
              <a:rPr b="0" lang="fr-FR" sz="2800" spc="-1" strike="noStrike">
                <a:solidFill>
                  <a:srgbClr val="ffff99"/>
                </a:solidFill>
                <a:latin typeface="Symbol"/>
                <a:ea typeface="Symbol"/>
              </a:rPr>
              <a:t>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Mali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utres dispositifs régionaux et internationaux: </a:t>
            </a: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Fews, SMIAR (FAO), Agryhmet (CILS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1993-96 :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SAP/GC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« gestion des catastrophes »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1996-99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: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SAP « routine »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1999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: le  </a:t>
            </a: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DNPGCA,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le pari d’une</a:t>
            </a:r>
            <a:r>
              <a:rPr b="0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gestion commune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(« 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Relevé de conclusions »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2000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DNPGCA  renforcé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 gros appui U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2005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: signature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accord cad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99"/>
                </a:solidFill>
                <a:latin typeface="Times New Roman"/>
              </a:rPr>
              <a:t>Structures et outils du Dispositif</a:t>
            </a:r>
            <a:r>
              <a:rPr b="0" lang="fr-FR" sz="36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s structures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Organe commun : CMC / CRC (Commission Mixte de concertation) </a:t>
            </a: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signataires :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UE, France, RFA, USAID, Suisse et PAM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en commun : SNR (SNS + FSA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en commun des donateurs : FC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s outils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CCA (Cellule Crises Alimentaire, Cabinet 1er Ministre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OPVN (gestion par contrat-Plan avec l’Etat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s moyens d’intervention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ide alimentaire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Ventes à prix modérés, distribution semences/intran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ctions d’atténuation (micro-réalisation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Caractéristiques du Ni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: 12 millions hab, majorité jeune et rurale,   concentrée dans la partie méridionale. Forte croissance (3,1%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centration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opulation et agriculture dans partie méridionale  (10% territoire bénéficie pluviométrie  &gt; 350 mm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griculture + élevag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: secteur clé de l’économie. Surfaces irriguées faibles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auvreté massiv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, en particulier en milieu rural (dernier rang IDH / PNUD) 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ôle déterminant du Nigeria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oisin dans la sécurité alimentaire (approvisionnement et revenu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8:30:36Z</dcterms:created>
  <dc:creator>EGG</dc:creator>
  <dc:description/>
  <dc:language>en-US</dc:language>
  <cp:lastModifiedBy>EGG</cp:lastModifiedBy>
  <dcterms:modified xsi:type="dcterms:W3CDTF">2007-03-13T05:13:42Z</dcterms:modified>
  <cp:revision>13</cp:revision>
  <dc:subject/>
  <dc:title>Politique publique,  jeux d’acteurs  et dépendance de sentier :  la sécurité alimentaire au  Niger </dc:title>
</cp:coreProperties>
</file>